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45A-4055-4D0B-84D4-B5FD7BEA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268-30F1-4FE5-9AAC-96B48AA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FD5-D2E2-49E9-8063-87175CBC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02B-1872-4D62-BD44-62839058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463-D4F6-406C-812C-C201D8E2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3088-8B4F-400C-8052-A0A8C646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BA56-A493-445F-B03A-75E4FEDE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E258-B22C-4AC3-A5C5-658A934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7BE5-104D-4C2F-B667-6AC76D54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17C-1595-4E14-A83C-FFCFAB5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125-49F7-44AD-8EF3-FDA92BD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CBB-67DA-4CB3-8D7C-1171C73F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8B7-D5FB-48BB-A4B8-6CBCA11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AD60-729D-4BFC-AEAB-61AB87A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16EA-EEAA-468E-949E-DF539CA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475A-5B74-458A-BD6E-FE416E2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80E-1123-433C-99AB-9C77703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49D5-B340-4F34-A01A-7D9F6659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9989-2904-4CC2-9EEC-FE38DC14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3817-0DC1-453F-A9E1-E8FD269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F72F-E683-4C06-B16B-B5054D55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D5FF-7ED8-4DC2-8885-8400803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A8D-F8E0-4B3D-AA38-424EA48A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1F4B-490F-4D6C-B30A-EB9B3EC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1EBE-3178-46D5-8FE5-12F1D3D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E246-7E1E-40B0-B1C5-1E43AF5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08C3-5959-4FE0-AD7A-F1B59A0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342F-6D80-4643-B66F-4ACDB91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30E6-398E-48E3-AE16-54C1D184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4E19-82FB-4497-92C4-2D56F519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1FC3-E1FA-4218-BD4C-D3651FEB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9F25-896C-485B-B36C-89C43022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AE0A-BCFD-403E-B3AB-3C9755A2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ABE-22E6-4498-9AD5-F7140659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E436-4F08-41F9-8E60-A0D9747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12FB-2A53-452F-9490-2E39202B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E960-E676-4EC7-A7ED-8C1A22F4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3D96-36C9-49ED-859D-17D6C66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91B6-7C63-40F1-8525-F97821E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9A6F9-B79D-4226-9263-776F9AA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BA2A-3AE3-45BF-A227-F2CF6B7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64F3-CC60-472E-B3E0-68B978B4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5864-8798-47A2-B64C-23494ECB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059-3304-401C-BD59-0A7E200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B71-2076-48C7-8E47-04A9A74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EDB-5052-440F-81F8-58006AA5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5E3-3577-46D6-81AE-C2EC332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5C2-E79E-42A2-AF8B-C894D250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E84-9569-4BB7-82D0-F85E73A6B7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9C8-0550-4B3E-B632-1C149F81FD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8C4-F14E-4622-92CB-2DD243394B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78E-5210-4ED6-B052-D41FA0C579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[TB.Lulz.H4x.So1337.itgftw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Hel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is is a test powerpoint. If you are viewing this, the tutorial works 100% and so does downloa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member to convert all powerpoints to 1997-2003 compatability so all computers can vie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ank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7:41:34Z</dcterms:created>
  <dc:creator>Trevor</dc:creator>
  <dc:description/>
  <dc:language>en-US</dc:language>
  <cp:lastModifiedBy>Trevor</cp:lastModifiedBy>
  <dcterms:modified xsi:type="dcterms:W3CDTF">2008-11-14T07:43:04Z</dcterms:modified>
  <cp:revision>1</cp:revision>
  <dc:subject/>
  <dc:title>Demonstration</dc:title>
</cp:coreProperties>
</file>